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679727-495A-4E05-936F-531D1424132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348DFB-48C5-4B3E-8897-1C9642411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1F663B-C2EE-4E37-902D-2DD7708AB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1C3E70-F935-44B8-8C25-EB8C7040ED1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C00632-6DFD-4329-B923-9F94CBAB6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34AEB4-5500-4D40-A031-0859FC6CB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3F7AE0-8E8B-4AB3-9E73-71D777093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BA10DE-6FEF-4317-86F1-94AFA006D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051D32-92C3-40FB-AC7A-1B684E345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5C3F96-25E5-4895-836B-6E585FA66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F0B9D7-4148-4AE4-8ABC-A51A2C6AB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64E677-A0BF-4A21-B069-3EB84583E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09E4C-2A2D-43F4-97AB-8F1F096FB24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616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症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者给予镇痛剂，但禁用吗啡和哌替啶，以免抑制呼吸中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呕吐者应禁食和维持水、电解质及酸碱平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高热者进行有效降温，减少脑缺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9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颅内占位性病变、颅内压增高，拟行手术治疗。入院后第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，他清晨用力排便时突发剧烈头痛，呕吐，左侧肢体瘫痪，意识丧失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 55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R 15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P 150/88 mmH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右侧瞳孔散大，对光反射消失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①该患者出现了何种问题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?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②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为什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?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③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目前的急救护理措施有哪些？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 与颅内压增高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体液不足的危险 与频繁呕吐、不能进食和脱水治疗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脑疝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般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：床头抬高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5°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0°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的斜坡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给氧 ：持续或间断给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与补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维持正常体温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意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清醒、模糊、浅昏迷、昏迷和深昏迷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瞳孔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患侧初期瞳孔缩小，对光反射迟钝，后期患侧瞳孔逐渐扩大，直接或间接对光反射消失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命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肢体功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颅内压监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避免颅内压突然增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绝对卧床休息，保持病室安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,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避免情绪激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呼吸道通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避免剧烈咳嗽和用力排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及时控制癫痫发作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脑疝的急救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立即脱水治疗 遵医嘱快速静脉输入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0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甘露醇和呋塞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呼吸道通畅，吸氧。准备气管插管盘及呼吸机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密切观察生命体征、意识、瞳孔变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做好紧急手术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脱水治疗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遵医嘱高渗性和利尿性脱水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在脱水期间要观察血压、脉搏、尿量变化，注意观察和记录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出入水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为防止颅内压反跳现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激素治疗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遵医嘱应用肾上腺皮质激素如地塞米松、氢化可的松等，可预防和缓解脑水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应加强观察和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,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减少激素引起消化道应激性溃疡机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冬眠低温治疗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环境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单人房间，室温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0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降温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密切观察患者生命体征、意识和瞳孔变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温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举颅内压增高患者的病情观察要点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描述颅内压增高的定义、临床表现及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描述冬眠低温治疗、脑室引流疗法的护理要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库欣反应的含义及意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比较两种常见脑疝的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能评估颅内压增高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脑脊液引流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脑室引流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严格无菌操作，妥善固定，保持引流通畅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,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活动翻身时防止引流管滑脱，每日更换引流袋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维持适当引流速度和量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观察并记录脑脊液性状和量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拔管：脑室引流时间一般不超过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天，拔管前应试行夹闭引流管或抬高引流袋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小时，观察有无颅内压增高现象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脑脊液引流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持续腰大池引流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严密观察病情变化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妥善固定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观察、记录引流液的量、色、质和速度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有效引流和预防感染同脑室引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拔管护理同脑室引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症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头痛者遵医嘱使用镇痛剂，但禁用吗啡和哌替啶，以免抑制呼吸中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呕吐者应禁食和维持水、电解质及酸碱平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高热者进行有效降温，减少脑缺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躁动者寻找原因，遵医嘱给予镇静药物，切忌强行约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介绍疾病相关知识，指导患者及家属学习和掌握康复知识和技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颅内压增高患者要防止剧烈咳嗽、便秘、用力等诱发颅内压骤升的因素，避免脑疝发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主要包括两方面，一是颅腔内容物的体积或量增加，二是颅内空间或颅腔容积缩小。前者多因脑体积增加（如脑组织损伤、缺血缺氧、中毒等导致脑水肿）、脑脊液增多或脑血流量增加。后者可因先天性因素（如狭颅症、颅底凹陷症等先天性畸形使颅腔容积变小）和后天性因素（如颅内血肿、脑肿瘤等颅内占位性病变使颅内空间相对缩小，或大片凹陷性颅骨骨折使颅腔容积变小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最早和最主要的症状是头痛、呕吐与视盘水肿，合称颅内压增高三主征，其他有意识障碍、生命体征紊乱、脑疝和阵发性黑矇、头晕、猝倒、头皮静脉曲张等其他症状和体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一般治疗、病因治疗、降低颅内压和对症治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绝对卧床休息，保持病室安静。床头抬高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5°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0°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观察生命体征、瞳孔和意识等的变化。避免情绪激动、剧烈咳嗽和便秘，防止颅内压骤升。若出现脑疝及时处理。各项配合治疗的护理，如脱水、激素、脑疝急救、脑室引流和冬眠低温治疗的护理。对高热、头痛、呕吐患者注意对症护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560" y="1371240"/>
            <a:ext cx="8731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颅内压增高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intracranial hypertension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是神经外科常见临床病理综合征，是颅脑损伤、脑肿瘤、脑出血、脑积水和颅内炎症等疾病引起颅腔内容物体积增加，导致颅内压持续在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.0kP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00mmH</a:t>
            </a:r>
            <a:r>
              <a:rPr b="0" lang="en-US" sz="32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O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以上，并出现头痛、呕吐、视盘水肿等相应的综合征，称为颅内压增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9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5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头痛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个月，多见于清晨，低头、用力时加重。头痛时有恶心呕吐，与进食无关。经常出现癫痫发作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：颅内占位性病变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颅内压增高：头痛、呕吐、视盘水肿是颅内压增高的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三主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”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头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呕吐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视盘水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意识障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命体征紊乱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脑疝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脑幕切迹疝：意识障碍进行性加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枕骨大孔疝：意识障碍和瞳孔改变出现较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腰椎穿刺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RI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脑造影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相关疾病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般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降低颅内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脱水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激素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冬眠低温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脑脊液引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7-24T08:33:11Z</dcterms:modified>
  <cp:revision>90</cp:revision>
  <dc:subject/>
  <dc:title>内科护理学</dc:title>
</cp:coreProperties>
</file>